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ct" ContentType="image/x-pict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E278-4F81-4031-ABB2-AD0DC24B6F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2B3-BE86-4D5C-86EE-4D3433D6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D14-347B-4D90-AC0C-059F2C8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C6C-2495-4B60-B3E9-CD6A58C4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36F-8467-48B5-A1F8-8F405F27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C95-A0D3-4BD9-A4F5-5262E095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E02-5E7D-450F-996E-736F64B4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5F5-8488-46AB-821B-B34CED99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739-DE88-4E8C-98C8-25E930E1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28240"/>
            <a:ext cx="9515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F84-5F70-439D-AAEE-FD836E98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2D8-AF53-41F9-9C20-7F72DD91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1A5-85DC-456F-9BE7-CCF9E823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9C6-FA00-4FC1-AD13-6979924E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2D63-77A3-4F27-9191-25A593C3D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5400000">
            <a:off x="1709640" y="-1719360"/>
            <a:ext cx="6850080" cy="1030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6360" y="722160"/>
            <a:ext cx="92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Neuroenergetics: Modeling brain cell metabolic phen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879840" y="2639880"/>
            <a:ext cx="118850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Solving biological problems that require Math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Project supervis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Luc Pelle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Aitana Morton de Lachap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75320" y="631800"/>
            <a:ext cx="62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5480" y="762120"/>
            <a:ext cx="8674200" cy="59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401" t="3146" r="1563" b="1351"/>
          <a:stretch/>
        </p:blipFill>
        <p:spPr>
          <a:xfrm>
            <a:off x="852480" y="771480"/>
            <a:ext cx="8618400" cy="5892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7560" y="1941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NEU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65640" y="1941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ASTROC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86040" y="1940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CAPIL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1040" y="39416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59400" y="34513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51280" y="37418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0320" y="41371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49640" y="952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87000" y="13701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48560" y="1776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Lac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0240" y="21286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57000" y="30160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43080" y="33544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70800" y="37260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56400" y="52052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5800" y="2800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Lac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28080" y="30909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22240" y="34704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13520" y="5237280"/>
            <a:ext cx="2542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-1    in capill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nd 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-3    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06560" y="594684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onocarboxylat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CT1    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CT2    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31960" y="5224320"/>
            <a:ext cx="3609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 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SN-1   System N transport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SAT    Sodium-dependent aminoacid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10360" y="5972040"/>
            <a:ext cx="32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EAAT  (excitatory aminoacid trasporter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98960" y="31305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70800" y="21096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Astrocyte-Neuron Lactat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0200" y="203040"/>
            <a:ext cx="5391360" cy="474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5320" y="631800"/>
            <a:ext cx="62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59000" y="698400"/>
            <a:ext cx="7315200" cy="576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43120" y="977760"/>
            <a:ext cx="6680160" cy="5335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05800" y="639756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Barros et al. (2005) TINS 28:117-11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74160" y="162000"/>
            <a:ext cx="102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 Rounded MT Bold"/>
              </a:rPr>
              <a:t>R</a:t>
            </a:r>
            <a:r>
              <a:rPr b="1" lang="fr-FR" sz="2000" spc="-1" strike="noStrike">
                <a:solidFill>
                  <a:srgbClr val="ffff00"/>
                </a:solidFill>
                <a:latin typeface="Arial Rounded MT Bold"/>
                <a:ea typeface="ＭＳ Ｐゴシック"/>
              </a:rPr>
              <a:t>ô</a:t>
            </a:r>
            <a:r>
              <a:rPr b="1" lang="fr-FR" sz="2000" spc="-1" strike="noStrike">
                <a:solidFill>
                  <a:srgbClr val="ffff00"/>
                </a:solidFill>
                <a:latin typeface="Arial Rounded MT Bold"/>
              </a:rPr>
              <a:t>le du transport du glucose pour son utilisation par les cell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46080" y="152280"/>
            <a:ext cx="818208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59000" y="1697040"/>
            <a:ext cx="7315200" cy="476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79800" y="393840"/>
            <a:ext cx="10848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 Rounded MT Bold"/>
              </a:rPr>
              <a:t>Modélisation de phénotypes métaboliques diffé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Rounded MT Bold"/>
              </a:rPr>
              <a:t>Neurone vs Astr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2960" y="415800"/>
            <a:ext cx="9350640" cy="884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48000" y="2014560"/>
            <a:ext cx="5052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75320" y="631800"/>
            <a:ext cx="62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08000"/>
            <a:ext cx="95184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Outils mathéma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2280" y="1328760"/>
            <a:ext cx="9256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95640" indent="-298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Une équation différentielle est une relation entre une ou plusieurs fonctions inconnues et leurs dérivé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640" indent="-298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Les équations différentielles sont utilisées pour construire des modèles mathématiques de phénomènes physiques ou biologiques par 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640" indent="-298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MATLAB est à la fois un langage de programmation et un environnement de développement utilisé pour le calcul numér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76400" y="2268360"/>
            <a:ext cx="4980240" cy="9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0T09:53:26Z</dcterms:created>
  <dc:creator>P.J. Magistretti</dc:creator>
  <dc:description/>
  <dc:language>en-US</dc:language>
  <cp:lastModifiedBy>Campus agreement</cp:lastModifiedBy>
  <dcterms:modified xsi:type="dcterms:W3CDTF">2010-02-25T09:06:22Z</dcterms:modified>
  <cp:revision>121</cp:revision>
  <dc:subject/>
  <dc:title>Aucun titre de diapositive</dc:title>
</cp:coreProperties>
</file>